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47F-6060-4BC8-A0C4-E69A15F6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0BDD-29E6-47A4-ABD7-368BE3E8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0F9-BE8C-487F-B848-0A2FC448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29A-C9E2-4A86-9ED4-6D1FFAEA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0A2C-05D5-4DD0-8D13-7472F3A7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15A1-CFE4-4665-AB24-308CED47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05CE-A334-4679-BBC9-D4AB145E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30F7-606C-4FD8-BBDB-8A94B0A5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E057-D97F-40AA-B233-A0DD864C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7A2D-CAFF-4925-8BE6-D6B8CF46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1480-321B-473D-A460-DC02D9C6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80B-F201-4D31-A427-CBDFE88B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A558-0FFA-409E-87D5-8FFD209D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4494-2274-4A21-8B15-15311C70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26CA-430D-4486-9A99-2D77AB5B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1446-4FB4-4933-9A46-7B291280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3C71-FC3C-4AE7-A3F6-1EE79AF1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17B-C862-4FED-9EAE-6536384E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7AF-A108-4001-B8F4-C72663F9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EE5-8E22-475F-8CA3-BA90CA9A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A70-FE8B-4B7F-9254-DEC7C899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FE31-E539-4300-B3EE-8BB0A30A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468-F3FA-4AD1-AF94-90CA7A06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ACFD-C682-4723-8A64-49354AEA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66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2E550B-4504-409F-B18B-A4FC3529611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7D12B2-32A1-411C-AF8C-A1FBC01A312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455760" y="1919160"/>
            <a:ext cx="82263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О чём умалчивают</a:t>
            </a:r>
            <a:br>
              <a:rPr sz="5400"/>
            </a:b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производители…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1447920" y="5715000"/>
            <a:ext cx="655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Г. Балаково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-228600" y="160200"/>
            <a:ext cx="53355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Компания-</a:t>
            </a: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производитель Mars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0" y="2209680"/>
            <a:ext cx="8226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M&amp;M’s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nickers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Milky Way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wix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Nestle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runch (шоколадно-рисовые хлопья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Milk Chocolate Nestle (шоколад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Nesquik (шоколадный напиток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adbury (Cadbury/Hershey’s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ruit &amp; Nu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4724280" y="457200"/>
            <a:ext cx="381024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455760" y="66600"/>
            <a:ext cx="8226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омпания-производитель Frito-Lay/PepsiCo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45576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ГМ-компоненты могут содержаться в маслеи других ингредиентах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Lays Potato Chips (все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heetos (все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PepsiC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epsi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epsi Cherry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Mountain Dew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419720" y="3352680"/>
            <a:ext cx="4190760" cy="29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5791320" y="121932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"/>
          <p:cNvSpPr/>
          <p:nvPr/>
        </p:nvSpPr>
        <p:spPr>
          <a:xfrm>
            <a:off x="457200" y="30492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омпания-производитель Heinz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0" y="990720"/>
            <a:ext cx="82263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Ketchup (regular &amp; no salt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етчуп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hili Sauce (Чили соус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einz 57 Steak Sauce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оус к мясу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ания-производитель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ellman’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Real Mayonnaise (майонез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Light Mayonnaise (майонез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Low-Fat Mayonnaise (майонез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6324480" y="382896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3967200" y="30240"/>
            <a:ext cx="51768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омпания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-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изводитель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ca-Cola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228600" y="304920"/>
            <a:ext cx="822636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rry Coc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ute Maid Orang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ute Maid Grap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омпания-производитель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Pringl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(Procter&amp;Gamble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gles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пс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ус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,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at, Pizza-licious,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 Cream &amp; Onion,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 &amp; Vinegar, Cheezeums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Компания-производитель Cadbury/Schweppe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-Up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Dr. Pepp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52440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5760" y="189000"/>
            <a:ext cx="82263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Присутствие ГМО на нашем стол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228600" y="1676520"/>
            <a:ext cx="403704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27356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455760" y="189000"/>
            <a:ext cx="82263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основные риски употребления в пищу ГМ- продуктов: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576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гнетение иммунит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озможность острых нарушений функционирования организма, таких как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ллергические реакции и метаболические расстройст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результате непосредственного действия трансгенных белков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зличные нарушения здоровья в результате появления в ГМО новых, незапланированных белк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395280" y="1700280"/>
            <a:ext cx="8226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явление устойчивости микрофлоры кишечника человека к антибиотика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рушения здоровья, связанные с накоплением в организме человека гербицид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кращение поступления в организм необходимых веще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даленные канцерогенный и мутагенный эффек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55760" y="189000"/>
            <a:ext cx="82263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основные риски употребления в пищу ГМ- продуктов: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395280" y="0"/>
            <a:ext cx="8226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из экологических последствий использования ГМО наиболее вероятны следующие: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457200" y="1752480"/>
            <a:ext cx="822636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·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явление непредсказуемых новых свой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ансгенного организма из-за множественного действия внедренных в него чужеродных генов.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иски отсроченного изменения свой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через несколько поколений), связанные с адаптацией нового гена и с проявлением как новых свойств ГМО, так и с изменением уже декларированных.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324000" y="1773360"/>
            <a:ext cx="8226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иски отсроченного изменения свойст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через несколько поколений), связанные с адаптацией нового гена и с проявлением как новых свойств ГМО, так и с изменением уже декларированных.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ражение нецелевых насекомых и других живых организм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гативное влияние на всех участников пищевой цепи в экосистем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5760" y="6480"/>
            <a:ext cx="8226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Из экологических последствий использования ГМО наиболее вероятны следующие: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395280" y="1569960"/>
            <a:ext cx="822636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явление устойчивости к трансгенным токсин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 насекомых, бактерий, грибов и других организмов, питающихся ГМ-растениями.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явление новых, более опасных штаммов фитовиру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и взаимодействии фитовирусов с трансгенными конструкциями в ГМО, которые, как правило, содержат гены вирусов, используемых в качестве вспомогательных в процессе генной инженер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55760" y="6480"/>
            <a:ext cx="8226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Из экологических последствий использования ГМО наиболее вероятны следующие: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55760" y="249120"/>
            <a:ext cx="822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енетически модулируемые организм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45576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МО (Genetically mоdulated organisms, GМО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формулировка из "Глобального дискурса"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иноним "генетически модифицированные организмы". В соответствии с трактовкой "Глобального дискурса" - продукты питания, а также живые организмы, созданные при помощи генной инженерии. Последствия от их применения недостаточно изучены и, по мнению авторитетных ученых, могут вызывать различные заболевания у людей. Правила ВТО поощряют создание и применение ГМО, а страны, вступившие в ВТО, должны открыть свои рынки для ГМО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395280" y="1989000"/>
            <a:ext cx="82263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теря разнообразия генофонда диких сородичей культурных раст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генетических центрах их происхождения, вследствие переопыления их с родственными трансгенными растениями.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лияние на естественный отб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455760" y="6480"/>
            <a:ext cx="8226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Из экологических последствий использования ГМО наиболее вероятны следующие: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45576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Желаю вам доброго здравия! Старайтесь избегать употребление в пищу продуктов, содержащих вредные пищевые добавки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3348000" y="3357720"/>
            <a:ext cx="602136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ю выполнила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ца 11 класса «Б»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«Гимназия №1»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рмаш Анастаси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итель проекта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езнова Наталья Георгиевн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428616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450720" y="0"/>
            <a:ext cx="8234640" cy="2162160"/>
            <a:chOff x="450720" y="0"/>
            <a:chExt cx="8234640" cy="2162160"/>
          </a:xfrm>
        </p:grpSpPr>
        <p:pic>
          <p:nvPicPr>
            <p:cNvPr id="95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0"/>
              <a:ext cx="823464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"/>
            <p:cNvSpPr/>
            <p:nvPr/>
          </p:nvSpPr>
          <p:spPr>
            <a:xfrm>
              <a:off x="450720" y="0"/>
              <a:ext cx="8234640" cy="21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Arial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1138320" y="1598760"/>
            <a:ext cx="6859440" cy="4495680"/>
            <a:chOff x="1138320" y="1598760"/>
            <a:chExt cx="6859440" cy="4495680"/>
          </a:xfrm>
        </p:grpSpPr>
        <p:graphicFrame>
          <p:nvGraphicFramePr>
            <p:cNvPr id="98" name="Object 5"/>
            <p:cNvGraphicFramePr/>
            <p:nvPr/>
          </p:nvGraphicFramePr>
          <p:xfrm>
            <a:off x="1138320" y="1598760"/>
            <a:ext cx="6859440" cy="449568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99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38320" y="1598760"/>
                      <a:ext cx="685944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Text Box 6"/>
            <p:cNvSpPr/>
            <p:nvPr/>
          </p:nvSpPr>
          <p:spPr>
            <a:xfrm>
              <a:off x="1138320" y="1598760"/>
              <a:ext cx="685944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2" name="Group 2"/>
          <p:cNvGrpSpPr/>
          <p:nvPr/>
        </p:nvGrpSpPr>
        <p:grpSpPr>
          <a:xfrm>
            <a:off x="1135080" y="1598760"/>
            <a:ext cx="6864480" cy="4495680"/>
            <a:chOff x="1135080" y="1598760"/>
            <a:chExt cx="6864480" cy="4495680"/>
          </a:xfrm>
        </p:grpSpPr>
        <p:graphicFrame>
          <p:nvGraphicFramePr>
            <p:cNvPr id="103" name="Object 3"/>
            <p:cNvGraphicFramePr/>
            <p:nvPr/>
          </p:nvGraphicFramePr>
          <p:xfrm>
            <a:off x="1135080" y="1598760"/>
            <a:ext cx="6864480" cy="4495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5080" y="1598760"/>
                      <a:ext cx="68644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Text Box 4"/>
            <p:cNvSpPr/>
            <p:nvPr/>
          </p:nvSpPr>
          <p:spPr>
            <a:xfrm>
              <a:off x="1135080" y="1598760"/>
              <a:ext cx="686448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Arial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450720" y="0"/>
            <a:ext cx="8234640" cy="2162160"/>
            <a:chOff x="450720" y="0"/>
            <a:chExt cx="8234640" cy="2162160"/>
          </a:xfrm>
        </p:grpSpPr>
        <p:pic>
          <p:nvPicPr>
            <p:cNvPr id="107" name="Picture 7" descr=""/>
            <p:cNvPicPr/>
            <p:nvPr/>
          </p:nvPicPr>
          <p:blipFill>
            <a:blip r:embed="rId3"/>
            <a:stretch/>
          </p:blipFill>
          <p:spPr>
            <a:xfrm>
              <a:off x="450720" y="0"/>
              <a:ext cx="823464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/>
            <p:cNvSpPr/>
            <p:nvPr/>
          </p:nvSpPr>
          <p:spPr>
            <a:xfrm>
              <a:off x="450720" y="0"/>
              <a:ext cx="8234640" cy="21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Arial"/>
              </a:endParaRPr>
            </a:p>
          </p:txBody>
        </p:sp>
      </p:grp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0" name="Group 2"/>
          <p:cNvGrpSpPr/>
          <p:nvPr/>
        </p:nvGrpSpPr>
        <p:grpSpPr>
          <a:xfrm>
            <a:off x="609480" y="457200"/>
            <a:ext cx="7770960" cy="5865840"/>
            <a:chOff x="609480" y="457200"/>
            <a:chExt cx="7770960" cy="5865840"/>
          </a:xfrm>
        </p:grpSpPr>
        <p:pic>
          <p:nvPicPr>
            <p:cNvPr id="111" name="Picture 3" descr=""/>
            <p:cNvPicPr/>
            <p:nvPr/>
          </p:nvPicPr>
          <p:blipFill>
            <a:blip r:embed="rId1"/>
            <a:stretch/>
          </p:blipFill>
          <p:spPr>
            <a:xfrm>
              <a:off x="609480" y="457200"/>
              <a:ext cx="7770960" cy="586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4"/>
            <p:cNvSpPr/>
            <p:nvPr/>
          </p:nvSpPr>
          <p:spPr>
            <a:xfrm>
              <a:off x="609480" y="457200"/>
              <a:ext cx="777096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924680" cy="4656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0" y="0"/>
            <a:ext cx="921528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Перечень стран в порядке уменьшения засеянных биотехнологическими сельскохозяйственными культурами площадей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457200" y="1557360"/>
            <a:ext cx="83026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США - 47, 6 млн. га (59% общемировой площади): кукуруза, хлопчатник, масличный рапс и соя; 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Аргентина - 16,2 млн. га (20%): соя, кукуруза, хлопчатник; 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Канада - 5,4 млн. га (6%): масличный рапс, кукуруза и соя; 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Бразилия - 5 млн. га (6%): соя; 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Китай - 3,7 млн. га (5%): хлопчатник; 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Парагвай - 1,2 млн. га (2%): соя; 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Индия - 0,5 млн. га (1%): хлопчатник; 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ЮАР - 0,5 млн. га (1%): кукуруза, соя и хлопчатник; 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ругвай - 0,3 млн. га (&lt; 1%): соя и кукуруза; 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Австралия - 0,2 млн. га (&lt; 1%): хлопчатник; 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Румыния - 0,1 млн. га (&lt; 1%): соя; 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Мексика - 0,1 млн. га (&lt; 1%): хлопчатник и соя; 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Испания - 0,1 млн. га (&lt; 1%): кукуруза; 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Филиппины - 0,1 млн. га (&lt; 1%): кукуруза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Кошелек потребителя и ГМО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80880" y="1219320"/>
            <a:ext cx="8301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я "подмены" мяса на сою примерно следующая: в 100 г мяса всего лишь 18% белка, в соевом изоляте 90% белка. Если 1 кг сои развести в 5 л воды получится 6 кг некой массы, содержащей 18% белка, близкого к белку мяса. Затем можно заменить 6 кг мяса на 6 кг соевой массы без потери по белку.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57200" y="3503520"/>
            <a:ext cx="579132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ым Ассоциации генетической безопасности, содержащая трансгенную сою, стоит около 160 рублей (в зависимости от магазина); "Докторская" от предприятия "Велком", вообще не содержащая сою, стоит около 190 рублей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324480" y="38862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писок некоторых гм-продуктов на российском рынке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Компания-производитель Kellog’s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0" y="914400"/>
            <a:ext cx="86821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rn Flakes (хлопья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rosted Flakes (хлопья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ice Krispies (хлопья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m Pops (хлопья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macks (хлопья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root Loops (цветные хлопья-колечки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pple Jacks (хлопья-колечки со вкусом яблока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ll-bran Apple Cinnamon/Blueberry (отруби со вкусом яблока, корицы, голубики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hocolate Chip (шоколадные чипсы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op Tarts (печенье с начинкой, все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усы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Nutri-grain (тосты с наполнителем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rispix (печенье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mart Sfart (хлопья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ll-Bran (хлопья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Just Right Fruit &amp; Nut (хлопья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oney Crunch Corn Flakes (хлопья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aisin Bran Crunch (хлопья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racklin’ Oat Bran (хлопья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5638680" y="3429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5800680" y="1066680"/>
            <a:ext cx="3343320" cy="42865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"/>
          <p:cNvSpPr/>
          <p:nvPr/>
        </p:nvSpPr>
        <p:spPr>
          <a:xfrm>
            <a:off x="533520" y="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Компания-производитель Hershey’s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0" y="762120"/>
            <a:ext cx="86868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oblerone (шоколад, все виды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ini Kisses (конфеты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Kit-Kat (шоколадный батончик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Kisses (конфеты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emi-Sweet Baking Chips (печенье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ilk Chocolate Chips (печенье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eese’s Peanut Butter Cups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арахисовое масло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pecial Dark (темный шоколад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ilk Chocolate (молочный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околад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hocolate Syrup (шоколадный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pecial Dark Chocolate Syrup (шоколадный сироп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trawberry Syrop (клубничный сироп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</cp:lastModifiedBy>
  <dcterms:modified xsi:type="dcterms:W3CDTF">2010-01-26T06:35:42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